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322-8EF4-426F-925F-B85DD944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E13-59D9-4A71-A7DD-4E2F308D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B88-F07C-4497-85F8-4082E182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A68-D5F8-4036-A8CF-6918F756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D861-DAE2-4649-A782-EB2ABC51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2F03-8C8A-41AB-BF0C-6C39CBE8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56D4-7764-40E5-A466-4E9DBD3B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95C0-65CB-4EFC-B257-3A15FD43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001A-EC62-4A5C-B17C-100A07C9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1914-33DF-4547-8EA4-1D2EF85B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9321-163B-4AF3-97AE-10E30640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558-C08B-4260-89ED-4AAF0554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0F8F-1D37-463B-B1A2-724DE192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BC3E-C668-4823-B681-4015C959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1AB9-7196-4D6B-B00A-3D579180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0ED3-F264-4CD3-871C-35A71595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B705-65E9-4D94-A254-21ECDCA3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3EC-A642-4C0D-AD7F-FCA0D3FD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222-B19C-421C-BDEA-C8BC58B5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769-FA59-4994-8C90-4BB147E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8B0-B199-4584-9A03-A29D27A9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07D-B2CC-4A29-A32C-C01D68CF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31C-D274-4677-8259-21B37F0F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92B-923F-4A32-97BD-48CB8B4F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B811-B96A-4B41-9AE3-35B2C260A4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878D-FD9D-4014-AC43-04C55C4E166B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6"/>
          <p:cNvSpPr/>
          <p:nvPr/>
        </p:nvSpPr>
        <p:spPr>
          <a:xfrm>
            <a:off x="2050920" y="333360"/>
            <a:ext cx="6337440" cy="4686480"/>
          </a:xfrm>
          <a:custGeom>
            <a:avLst/>
            <a:gdLst>
              <a:gd name="textAreaLeft" fmla="*/ 792000 w 6337440"/>
              <a:gd name="textAreaRight" fmla="*/ 5545440 w 6337440"/>
              <a:gd name="textAreaTop" fmla="*/ 318960 h 4686480"/>
              <a:gd name="textAreaBottom" fmla="*/ 3515040 h 4686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deb91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530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Учитель МБОУ Излучинской ОСШ №1 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Муленкова И.А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                         </a:t>
            </a: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Я</a:t>
            </a:r>
            <a:endParaRPr b="1" lang="en-US" sz="9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635280" y="206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граждан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564000" y="3068640"/>
            <a:ext cx="302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С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71600" y="259920"/>
            <a:ext cx="7772400" cy="470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«Чтобы человек был счастливым у него должны бы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корни»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крылья»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нание истории Отечества и любовь к нему – это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орни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А творческое чтение делает человека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крылатым»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огда  человек перестает читать, он перестает мыслить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0" name="Picture 4" descr="bbede0006c530d485ca772fc67e59d7f"/>
          <p:cNvPicPr/>
          <p:nvPr/>
        </p:nvPicPr>
        <p:blipFill>
          <a:blip r:embed="rId1"/>
          <a:stretch/>
        </p:blipFill>
        <p:spPr>
          <a:xfrm flipH="1">
            <a:off x="6877080" y="4724280"/>
            <a:ext cx="1798560" cy="1959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f091f5262da3a0658f664efae342399f"/>
          <p:cNvPicPr/>
          <p:nvPr/>
        </p:nvPicPr>
        <p:blipFill>
          <a:blip r:embed="rId2"/>
          <a:stretch/>
        </p:blipFill>
        <p:spPr>
          <a:xfrm>
            <a:off x="1835280" y="4869000"/>
            <a:ext cx="1593720" cy="1598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63e88de767d6637a447f6d35f1be6d75"/>
          <p:cNvPicPr/>
          <p:nvPr/>
        </p:nvPicPr>
        <p:blipFill>
          <a:blip r:embed="rId3"/>
          <a:stretch/>
        </p:blipFill>
        <p:spPr>
          <a:xfrm>
            <a:off x="4572000" y="5013360"/>
            <a:ext cx="1655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7160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Книга – это волшебница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Книга преобразила мир…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В ней память человеческого рода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                                 </a:t>
            </a: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Н. Морозов</a:t>
            </a: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5" descr="0d750384e4a783674e45aee90a5e30f6"/>
          <p:cNvPicPr/>
          <p:nvPr/>
        </p:nvPicPr>
        <p:blipFill>
          <a:blip r:embed="rId1"/>
          <a:stretch/>
        </p:blipFill>
        <p:spPr>
          <a:xfrm>
            <a:off x="3419640" y="4076640"/>
            <a:ext cx="273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Увидеть и  познать свой край можно либо своими глазами,  либо с помощью книг». 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Михаил Васильевич Ломоносов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00_0855"/>
          <p:cNvPicPr/>
          <p:nvPr/>
        </p:nvPicPr>
        <p:blipFill>
          <a:blip r:embed="rId1"/>
          <a:stretch/>
        </p:blipFill>
        <p:spPr>
          <a:xfrm>
            <a:off x="4211640" y="692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толица России -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Москв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2" name="Picture 8" descr="100_0846"/>
          <p:cNvPicPr/>
          <p:nvPr/>
        </p:nvPicPr>
        <p:blipFill>
          <a:blip r:embed="rId2"/>
          <a:stretch/>
        </p:blipFill>
        <p:spPr>
          <a:xfrm>
            <a:off x="971640" y="765000"/>
            <a:ext cx="2998800" cy="3999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100_0848"/>
          <p:cNvPicPr/>
          <p:nvPr/>
        </p:nvPicPr>
        <p:blipFill>
          <a:blip r:embed="rId3"/>
          <a:stretch/>
        </p:blipFill>
        <p:spPr>
          <a:xfrm>
            <a:off x="2124000" y="3076560"/>
            <a:ext cx="2835360" cy="37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100_0833"/>
          <p:cNvPicPr/>
          <p:nvPr/>
        </p:nvPicPr>
        <p:blipFill>
          <a:blip r:embed="rId4"/>
          <a:stretch/>
        </p:blipFill>
        <p:spPr>
          <a:xfrm>
            <a:off x="5219640" y="3645000"/>
            <a:ext cx="3673440" cy="288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Ханты-Мансийский автономный округ –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Югр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6" name="Picture 4" descr="1-1-(4)m"/>
          <p:cNvPicPr/>
          <p:nvPr/>
        </p:nvPicPr>
        <p:blipFill>
          <a:blip r:embed="rId1"/>
          <a:stretch/>
        </p:blipFill>
        <p:spPr>
          <a:xfrm>
            <a:off x="1619280" y="1341360"/>
            <a:ext cx="676908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556000" y="5445000"/>
            <a:ext cx="53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Начало будущему городу положено в 1962 году, когда был построен п.Комсомольский. Своим появлением он обязан лесу и газу. Нынешнее название город получил в июле 1992г.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MG_1222m"/>
          <p:cNvPicPr/>
          <p:nvPr/>
        </p:nvPicPr>
        <p:blipFill>
          <a:blip r:embed="rId1"/>
          <a:stretch/>
        </p:blipFill>
        <p:spPr>
          <a:xfrm>
            <a:off x="1692360" y="476280"/>
            <a:ext cx="3743280" cy="2768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SC00025m"/>
          <p:cNvPicPr/>
          <p:nvPr/>
        </p:nvPicPr>
        <p:blipFill>
          <a:blip r:embed="rId2"/>
          <a:stretch/>
        </p:blipFill>
        <p:spPr>
          <a:xfrm>
            <a:off x="5148360" y="3429000"/>
            <a:ext cx="3744720" cy="2647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1838880" y="342792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гостиница "Югорск"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004280" y="6236280"/>
            <a:ext cx="514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Храм Преподобного Сергия Радонежского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316720" cy="465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74440" cy="1268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532520" y="165240"/>
            <a:ext cx="71028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«Увидеть и познать свой край можно либо своими глазами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либо с помощью книг» М.В.Ломоносов.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187280" y="907920"/>
            <a:ext cx="829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Нижневартовскому району 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85 лет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7" name="Picture 4" descr="Излучинск авто"/>
          <p:cNvPicPr/>
          <p:nvPr/>
        </p:nvPicPr>
        <p:blipFill>
          <a:blip r:embed="rId1"/>
          <a:stretch/>
        </p:blipFill>
        <p:spPr>
          <a:xfrm>
            <a:off x="1619280" y="333360"/>
            <a:ext cx="727380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ИЗЛУЧИНСК"/>
          <p:cNvPicPr/>
          <p:nvPr/>
        </p:nvPicPr>
        <p:blipFill>
          <a:blip r:embed="rId1"/>
          <a:stretch/>
        </p:blipFill>
        <p:spPr>
          <a:xfrm>
            <a:off x="1547640" y="476280"/>
            <a:ext cx="7345440" cy="584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1:25:39Z</dcterms:created>
  <dc:creator>student</dc:creator>
  <dc:description/>
  <dc:language>en-US</dc:language>
  <cp:lastModifiedBy>Ирина</cp:lastModifiedBy>
  <dcterms:modified xsi:type="dcterms:W3CDTF">2024-06-25T09:58:43Z</dcterms:modified>
  <cp:revision>23</cp:revision>
  <dc:subject/>
  <dc:title>восьмой</dc:title>
</cp:coreProperties>
</file>